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9C10-94A6-4E7C-BB0A-0730DBA6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F81-D714-4722-80BC-4D903182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E0C-4372-4D01-9205-81B444A6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6497-91EF-45F5-8899-D60B0268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A61-EE42-46A9-B5B6-BC07D301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5CD-6B52-4BB5-924D-36B6079F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F2F-24A3-438E-9DA4-71F4F0D3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4C80-9900-4020-93FF-ED5062BC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78EE-BB2A-42DA-BDD8-7C216393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AAB7-D08E-4DB3-9A57-9F22D881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066-E3F2-4EB2-8515-4D91D6BB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9CA-9AF6-4E94-9119-39C42A0F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FBAF-9323-4B60-967A-83551DBC450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90600" y="1023840"/>
            <a:ext cx="8296200" cy="1683000"/>
          </a:xfrm>
          <a:prstGeom prst="rect">
            <a:avLst/>
          </a:prstGeom>
          <a:ln w="0">
            <a:noFill/>
          </a:ln>
        </p:spPr>
      </p:pic>
      <p:pic>
        <p:nvPicPr>
          <p:cNvPr id="44" name="Content Placeholder 4" descr=""/>
          <p:cNvPicPr/>
          <p:nvPr/>
        </p:nvPicPr>
        <p:blipFill>
          <a:blip r:embed="rId3"/>
          <a:stretch/>
        </p:blipFill>
        <p:spPr>
          <a:xfrm>
            <a:off x="2755800" y="1779480"/>
            <a:ext cx="5842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163520"/>
            <a:ext cx="7851960" cy="10796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3"/>
          <a:stretch/>
        </p:blipFill>
        <p:spPr>
          <a:xfrm>
            <a:off x="785880" y="3413160"/>
            <a:ext cx="176832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682560" y="2382840"/>
            <a:ext cx="482760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19" descr=""/>
          <p:cNvPicPr/>
          <p:nvPr/>
        </p:nvPicPr>
        <p:blipFill>
          <a:blip r:embed="rId5"/>
          <a:stretch/>
        </p:blipFill>
        <p:spPr>
          <a:xfrm>
            <a:off x="6516720" y="2425680"/>
            <a:ext cx="1994040" cy="11462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981000" y="4505400"/>
            <a:ext cx="7845480" cy="10602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1152360" y="3943440"/>
            <a:ext cx="241308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"/>
          <p:cNvPicPr/>
          <p:nvPr/>
        </p:nvPicPr>
        <p:blipFill>
          <a:blip r:embed="rId2"/>
          <a:stretch/>
        </p:blipFill>
        <p:spPr>
          <a:xfrm>
            <a:off x="974880" y="1030320"/>
            <a:ext cx="438912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32" descr=""/>
          <p:cNvPicPr/>
          <p:nvPr/>
        </p:nvPicPr>
        <p:blipFill>
          <a:blip r:embed="rId3"/>
          <a:stretch/>
        </p:blipFill>
        <p:spPr>
          <a:xfrm>
            <a:off x="5962680" y="1285920"/>
            <a:ext cx="2565360" cy="9572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4"/>
          <a:stretch/>
        </p:blipFill>
        <p:spPr>
          <a:xfrm>
            <a:off x="2871720" y="2309760"/>
            <a:ext cx="4383000" cy="78732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5"/>
          <a:stretch/>
        </p:blipFill>
        <p:spPr>
          <a:xfrm>
            <a:off x="2865600" y="3206880"/>
            <a:ext cx="43891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31:51Z</dcterms:modified>
  <cp:revision>124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